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970-DCD7-4B24-99AE-403CDCDF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130-55DE-442F-B95D-3391CE3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EBD-756E-49CF-9B2A-47C1E927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E8F-E085-4E21-AB76-AA8E8494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5D25-D799-4913-8123-FAA4C9C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D121-470F-4F5A-9C34-8E7E94DE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153A-74E3-4268-9F11-47B5A0E5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270-E751-4D5B-8023-0171DC05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1A8A-97D7-4184-B58F-AA514C20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B200-5953-4872-B7E6-B7FD0A3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CD9-5BD2-4824-B69E-CAEABBD6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EE6-4B38-4288-870B-5C0A1254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F67-9859-49C6-BDED-D4820E4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3103-12EB-44D8-9030-C8807E08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26A5-0401-4C48-93D1-CC00D7AC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3A02-8386-4623-8890-D5AA9C7E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CCAA-E273-44F5-B848-C0B50A37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F2C-6390-4062-918A-7E04878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0692-C12E-4179-A0BF-C61D9C4F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2BB-0839-409F-8F10-96ECF748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026-152A-4AFD-BE70-0AC9AA4B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57C-C724-4A10-89CA-C7B2F5E0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E1-D450-4E1E-B90B-C82B91D1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C52-D849-47CC-9069-D1ACA6C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BD03-0B58-4EAF-8B1B-BEFBB3160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D9BB-C515-40A1-A76D-26F225AD6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2428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d9d9ff"/>
                </a:solidFill>
                <a:uFillTx/>
                <a:latin typeface="Comic Sans MS"/>
              </a:rPr>
              <a:t>Y llyffant</a:t>
            </a:r>
            <a:endParaRPr b="1" lang="en-US" sz="32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492360" y="1267920"/>
            <a:ext cx="4896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ae llyffant wedi disgyn 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mewn i bydew (</a:t>
            </a:r>
            <a:r>
              <a:rPr b="0" i="1" lang="en-GB" sz="2800" spc="-1" strike="noStrike">
                <a:solidFill>
                  <a:srgbClr val="ffffff"/>
                </a:solidFill>
                <a:latin typeface="Comic Sans MS"/>
              </a:rPr>
              <a:t>pi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) sydd 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yfnder o 30 met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" y="3933360"/>
            <a:ext cx="769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ob diwrnod mae’r llyffant yn dringo 3 metr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fyny, ond mae’n disgyn yn ôl 2 fetr pob n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" y="5229000"/>
            <a:ext cx="76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awl diwrnod mae’ cymeryd i’r llyffant ddian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’r pydew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12732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20:00:58Z</dcterms:created>
  <dc:creator>Carwyn</dc:creator>
  <dc:description/>
  <dc:language>en-US</dc:language>
  <cp:lastModifiedBy>Carwyn</cp:lastModifiedBy>
  <dcterms:modified xsi:type="dcterms:W3CDTF">2008-12-07T20:06:16Z</dcterms:modified>
  <cp:revision>1</cp:revision>
  <dc:subject/>
  <dc:title>Y llyffant</dc:title>
</cp:coreProperties>
</file>